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515C-BE30-423E-BC8C-A77DC05CE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86AF-DDF7-4754-8918-E6439C74D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9B7E-DE52-4723-8328-9B7D68AD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94C1-E3BC-4F0A-9A6E-43034B613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B126-1BF8-4783-85A6-90B7BFD9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331D-642E-4CFE-BA9D-C4A1C7CED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ken without permission from: http://www.fsteiger.com/theory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1641-30AE-4703-A554-7A627FD4C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F235-0C05-4BEF-8ABF-81BDF3332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19FA-46B7-4419-9BF1-C74F1769A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E3BA-512A-4B9E-A219-E83EA20CE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341B-C8DB-4506-AB6A-C5E1F0F48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3766-F5F9-41EC-A573-C34EEC348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925E-CD37-44F8-AC67-A2796CB94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A5F-44CD-4361-B89D-4577F74B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4EA-12CF-46E4-A379-432EFB41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E46-67BF-4CF9-AB8C-B40F77EE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1A8-7BEF-4B5A-8402-50C8EF34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71C-2E06-4BA8-BDBF-51FEFAE9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904-185E-43AD-B6E0-0428E2AF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AD4-078A-46EC-9A0E-303E3CA3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C0F-A881-4A36-A9F0-B7D96062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32D-A2C2-4F37-98E0-E05CE42A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6DB-B3DA-46CD-87DB-A70F014A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841-16BB-4744-8EC4-987FD49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FEA-F766-4FD4-BB70-A762DB1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B61B-EDA7-4BDE-A23B-C781621D8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lstar.com/theories.htm" TargetMode="External"/><Relationship Id="rId2" Type="http://schemas.openxmlformats.org/officeDocument/2006/relationships/hyperlink" Target="https://www.youtube.com/watch?v=85diEXbJBIk&amp;index=1&amp;list=PL5270149AB732F0FB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cientific theo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ste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Theory of Rel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omic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Theory of Ev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se theories are well documented and proven beyond reasonable dou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continue to look at the component hypotheses of each theory, and they can be adjusted, but they are rarely, if ever, entirely repla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and most of the text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lstar.com/theorie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is short PBS vide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youtube.com/watch?v=85diEXbJBIk&amp;index=1&amp;list=PL5270149AB732F0F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is just a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artoon2"/>
          <p:cNvPicPr/>
          <p:nvPr/>
        </p:nvPicPr>
        <p:blipFill>
          <a:blip r:embed="rId1"/>
          <a:stretch/>
        </p:blipFill>
        <p:spPr>
          <a:xfrm>
            <a:off x="1646280" y="1828800"/>
            <a:ext cx="592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evolution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a theory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 that it’s just a guess or unproven, maybe not really believ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cientific terms, a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omething that has be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is gener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epted as being 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? Hypothesis? Theo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ientific 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ientific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ypothe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sible explanation of a single event based upon what is observed, but which has not been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ypotheses can be supported or refuted by experimentation or continued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cientific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ment of fact that describes an action or set of actions, sometimes expressed as a mathemat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d generally accepted to be true and univer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cientific law ever did not apply, then all science based upon that law would colla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cientific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's laws of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s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s of conservation of mass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…What is a scientific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o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ike a scientific law than a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lanation of a set of related observations or events based up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en hypothe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ified multiple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different groups of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cientist cannot create a theory; he/she can only create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Theory vs.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re gener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cepted to be 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 scientific community as a whole, and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sed to make predi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v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ies are much more complex and 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 describe a single action, whereas a theory explains an entire group of related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3:21:02Z</dcterms:created>
  <dc:creator>rubina khan</dc:creator>
  <dc:description/>
  <dc:language>en-US</dc:language>
  <cp:lastModifiedBy>rubina khan</cp:lastModifiedBy>
  <dcterms:modified xsi:type="dcterms:W3CDTF">2016-10-28T14:42:40Z</dcterms:modified>
  <cp:revision>63</cp:revision>
  <dc:subject/>
  <dc:title>What is a scientific theory?</dc:title>
</cp:coreProperties>
</file>